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B51-BA98-409C-A4B1-02CA1F0A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8B9-0B3A-4AB7-82FF-92213398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3BC-5973-4419-973A-0F4F11B7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931-0CA5-4ED0-BB66-2A1C4272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1BB-913E-4894-8747-476A59EB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C02-44D4-49C6-B07B-7248FAF7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832-1933-4117-9057-056CB249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A5E-464F-48A0-895F-05B638D6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749-1441-4E4D-B59D-C751669A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210-E728-4C6E-BFCE-5278799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5E9-5259-4B7B-9A1A-ECAFB4FC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C9C-B6B1-42B0-ADB5-C6BC686B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3AC6-6C7D-4402-964D-CD8C288EA33A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923B-8A2B-4EB3-A725-53734015852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498760" y="2743920"/>
            <a:ext cx="4159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题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金属材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课时  几种重要的金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八单元  金属和金属材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9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3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03200" y="1364760"/>
            <a:ext cx="800568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根据下面的图片，你能说出金属的用途吗？从中你又可以总结出金属的哪些物理性质？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8" name="图片 4" descr=""/>
          <p:cNvPicPr/>
          <p:nvPr/>
        </p:nvPicPr>
        <p:blipFill>
          <a:blip r:embed="rId1"/>
          <a:stretch/>
        </p:blipFill>
        <p:spPr>
          <a:xfrm>
            <a:off x="1228680" y="2644920"/>
            <a:ext cx="6726240" cy="3403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1549440" y="399888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有光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429000" y="3998880"/>
            <a:ext cx="14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能够导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5334120" y="3998880"/>
            <a:ext cx="32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有延展性，可以拉成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838080" y="5935680"/>
            <a:ext cx="28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有延展性，能压成薄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648240" y="5935680"/>
            <a:ext cx="14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能够导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5743440" y="5935680"/>
            <a:ext cx="13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能够弯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147"/>
          <p:cNvGrpSpPr/>
          <p:nvPr/>
        </p:nvGrpSpPr>
        <p:grpSpPr>
          <a:xfrm>
            <a:off x="301680" y="379440"/>
            <a:ext cx="2730240" cy="806760"/>
            <a:chOff x="301680" y="379440"/>
            <a:chExt cx="2730240" cy="806760"/>
          </a:xfrm>
        </p:grpSpPr>
        <p:sp>
          <p:nvSpPr>
            <p:cNvPr id="136" name="矩形 7"/>
            <p:cNvSpPr/>
            <p:nvPr/>
          </p:nvSpPr>
          <p:spPr>
            <a:xfrm>
              <a:off x="861480" y="379440"/>
              <a:ext cx="167184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6"/>
            <p:cNvSpPr/>
            <p:nvPr/>
          </p:nvSpPr>
          <p:spPr>
            <a:xfrm>
              <a:off x="301680" y="66708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17"/>
            <p:cNvSpPr/>
            <p:nvPr/>
          </p:nvSpPr>
          <p:spPr>
            <a:xfrm>
              <a:off x="663480" y="61632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6151"/>
            <p:cNvSpPr/>
            <p:nvPr/>
          </p:nvSpPr>
          <p:spPr>
            <a:xfrm>
              <a:off x="1357560" y="65304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金属的物理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6152"/>
            <p:cNvSpPr/>
            <p:nvPr/>
          </p:nvSpPr>
          <p:spPr>
            <a:xfrm>
              <a:off x="301680" y="66564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0"/>
          <p:cNvSpPr/>
          <p:nvPr/>
        </p:nvSpPr>
        <p:spPr>
          <a:xfrm>
            <a:off x="941040" y="758880"/>
            <a:ext cx="232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385723"/>
                </a:solidFill>
                <a:latin typeface="黑体"/>
                <a:ea typeface="黑体"/>
              </a:rPr>
              <a:t>金属共同的物理性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07800" y="1735200"/>
            <a:ext cx="85456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常温下为固体；（汞除外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有金属光泽；（大多呈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银白色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铁在粉末时呈</a:t>
            </a: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黑色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大多数为电和热的良导体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有延展性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⑤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密度较大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⑥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熔点较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4691160" y="4121280"/>
            <a:ext cx="362880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特例：汞常温下液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铜呈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紫红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金呈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黄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2160720" y="750960"/>
            <a:ext cx="95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385723"/>
                </a:solidFill>
                <a:latin typeface="黑体"/>
                <a:ea typeface="黑体"/>
              </a:rPr>
              <a:t>一些金属的物理性质的比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28720" y="1917720"/>
          <a:ext cx="7812000" cy="3952800"/>
        </p:xfrm>
        <a:graphic>
          <a:graphicData uri="http://schemas.openxmlformats.org/drawingml/2006/table">
            <a:tbl>
              <a:tblPr/>
              <a:tblGrid>
                <a:gridCol w="2562120"/>
                <a:gridCol w="5249880"/>
              </a:tblGrid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物理性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物理性质比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f0d9"/>
                    </a:solidFill>
                  </a:tcPr>
                </a:tc>
              </a:tr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导电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银的导电性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标准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    银　铜　金　铝　锌　铁　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优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 100  99   74     61    27   17    7.9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良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(g·cm</a:t>
                      </a:r>
                      <a:r>
                        <a:rPr b="0" lang="zh-CN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     金　 铅　 银　   铜　  铁　   锌　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 19.3 11.3  10.5    8.92   7.86    7.14  2.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熔点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    钨　   铁　  铜　  金　  银　铝　 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高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3410  1535 1083  1064    962  660   232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低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硬度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金刚石的硬度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作标准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    铬　铁　  银　    铜　   金　   铝　 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  9   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   2.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  2.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 2.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 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~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9 1.5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箭头连接符 1"/>
          <p:cNvCxnSpPr/>
          <p:nvPr/>
        </p:nvCxnSpPr>
        <p:spPr>
          <a:xfrm>
            <a:off x="3448080" y="2761920"/>
            <a:ext cx="5229720" cy="19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直接箭头连接符 2"/>
          <p:cNvCxnSpPr/>
          <p:nvPr/>
        </p:nvCxnSpPr>
        <p:spPr>
          <a:xfrm>
            <a:off x="3430440" y="3648240"/>
            <a:ext cx="5229720" cy="19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直接箭头连接符 3"/>
          <p:cNvCxnSpPr/>
          <p:nvPr/>
        </p:nvCxnSpPr>
        <p:spPr>
          <a:xfrm>
            <a:off x="3485880" y="4511160"/>
            <a:ext cx="5229720" cy="19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直接箭头连接符 4"/>
          <p:cNvCxnSpPr/>
          <p:nvPr/>
        </p:nvCxnSpPr>
        <p:spPr>
          <a:xfrm>
            <a:off x="3470040" y="5387760"/>
            <a:ext cx="5229720" cy="19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内容占位符 1"/>
          <p:cNvSpPr/>
          <p:nvPr/>
        </p:nvSpPr>
        <p:spPr>
          <a:xfrm>
            <a:off x="3985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了解了金属的物理性质，几种重要金属有哪些特性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4520" y="1762200"/>
          <a:ext cx="7848360" cy="4022640"/>
        </p:xfrm>
        <a:graphic>
          <a:graphicData uri="http://schemas.openxmlformats.org/drawingml/2006/table">
            <a:tbl>
              <a:tblPr/>
              <a:tblGrid>
                <a:gridCol w="1523520"/>
                <a:gridCol w="2057400"/>
                <a:gridCol w="2438640"/>
                <a:gridCol w="182880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金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铜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u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铁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铝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l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3382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物理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铜具有紫红色的金属光泽，具有良好的延展性、导电性和导热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纯铁具有银白色的金属光泽，质软，有良好的延展性，是电和热的良导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铝具有银白色的金属光泽，具有良好的延展性、导电性和导热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5520" y="3943440"/>
            <a:ext cx="77770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1080" indent="-181080"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灯泡里的灯丝用钨制而不用锡制？如果用锡制的话，可能会出现什么情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25520" y="2781360"/>
            <a:ext cx="827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银的导电性比铜好，为什么电线一般用铜制而不用银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25520" y="1341360"/>
            <a:ext cx="748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菜刀、镰刀、锤子等用铁制而不用铅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344600" y="2060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铁比铅的硬度大，且铅有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344600" y="3362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银的成本比铜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738360" y="5132520"/>
            <a:ext cx="770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钨的熔点比锡高。用锡制灯丝，通电后锡会熔化，灯丝会熔断，灯泡不能正常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"/>
          <p:cNvSpPr/>
          <p:nvPr/>
        </p:nvSpPr>
        <p:spPr>
          <a:xfrm>
            <a:off x="387360" y="708120"/>
            <a:ext cx="11844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19040" y="2421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下铁的用途，涉及了铁的哪些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63400" y="3016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烧菜用的铲子是铁制的，一般都要装上木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394360" y="3879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铁块可以制成铁丝或铁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46120" y="4808520"/>
            <a:ext cx="805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5400" indent="-7254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油罐车行驶时罐内石油振荡产生静电，易发生火险， 因此，车尾有一条拖地的铁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552400" y="3417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铁有良好的导热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246040" y="4348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铁具有延展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246040" y="582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铁具有导电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53880" y="730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什么有的铁制品如水龙头等要镀铬？如果镀金会怎样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730080" y="1295280"/>
            <a:ext cx="7871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铬比铁的硬度大，耐磨，耐腐蚀性强，且美观。镀金虽然美观，但成本高，不耐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椭圆形标注 17410"/>
          <p:cNvSpPr/>
          <p:nvPr/>
        </p:nvSpPr>
        <p:spPr>
          <a:xfrm rot="1914600">
            <a:off x="3413160" y="434880"/>
            <a:ext cx="1773360" cy="1913040"/>
          </a:xfrm>
          <a:prstGeom prst="wedgeEllipseCallout">
            <a:avLst>
              <a:gd name="adj1" fmla="val 98671"/>
              <a:gd name="adj2" fmla="val 18810"/>
            </a:avLst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中宋"/>
              </a:rPr>
              <a:t>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华文中宋"/>
              </a:rPr>
              <a:t>是否便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17411"/>
          <p:cNvSpPr/>
          <p:nvPr/>
        </p:nvSpPr>
        <p:spPr>
          <a:xfrm rot="2383800">
            <a:off x="5600880" y="1050840"/>
            <a:ext cx="1987200" cy="951120"/>
          </a:xfrm>
          <a:prstGeom prst="wedgeRoundRectCallout">
            <a:avLst>
              <a:gd name="adj1" fmla="val 3148"/>
              <a:gd name="adj2" fmla="val 154541"/>
              <a:gd name="adj3" fmla="val 16667"/>
            </a:avLst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形标注 17412"/>
          <p:cNvSpPr/>
          <p:nvPr/>
        </p:nvSpPr>
        <p:spPr>
          <a:xfrm rot="1887000">
            <a:off x="6084720" y="4220640"/>
            <a:ext cx="2195640" cy="1981440"/>
          </a:xfrm>
          <a:prstGeom prst="wedgeEllipseCallout">
            <a:avLst>
              <a:gd name="adj1" fmla="val -94777"/>
              <a:gd name="adj2" fmla="val 15712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废料是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易于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标注 17413"/>
          <p:cNvSpPr/>
          <p:nvPr/>
        </p:nvSpPr>
        <p:spPr>
          <a:xfrm rot="1242600">
            <a:off x="343080" y="3206880"/>
            <a:ext cx="1800000" cy="990360"/>
          </a:xfrm>
          <a:prstGeom prst="wedgeRoundRectCallout">
            <a:avLst>
              <a:gd name="adj1" fmla="val 93750"/>
              <a:gd name="adj2" fmla="val -18587"/>
              <a:gd name="adj3" fmla="val 16667"/>
            </a:avLst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价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标注 17414"/>
          <p:cNvSpPr/>
          <p:nvPr/>
        </p:nvSpPr>
        <p:spPr>
          <a:xfrm rot="2926800">
            <a:off x="1377720" y="1447560"/>
            <a:ext cx="1212840" cy="1139760"/>
          </a:xfrm>
          <a:prstGeom prst="wedgeRoundRectCallout">
            <a:avLst>
              <a:gd name="adj1" fmla="val 133925"/>
              <a:gd name="adj2" fmla="val -40453"/>
              <a:gd name="adj3" fmla="val 16667"/>
            </a:avLst>
          </a:prstGeom>
          <a:solidFill>
            <a:srgbClr val="5b9bd5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形标注 17415"/>
          <p:cNvSpPr/>
          <p:nvPr/>
        </p:nvSpPr>
        <p:spPr>
          <a:xfrm rot="19029000">
            <a:off x="1847880" y="4657320"/>
            <a:ext cx="1800360" cy="1854360"/>
          </a:xfrm>
          <a:prstGeom prst="wedgeEllipseCallout">
            <a:avLst>
              <a:gd name="adj1" fmla="val 104319"/>
              <a:gd name="adj2" fmla="val -1472"/>
            </a:avLst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Times New Roman"/>
                <a:ea typeface="华文中宋"/>
              </a:rPr>
              <a:t>对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Times New Roman"/>
                <a:ea typeface="华文中宋"/>
              </a:rPr>
              <a:t>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7416"/>
          <p:cNvSpPr/>
          <p:nvPr/>
        </p:nvSpPr>
        <p:spPr>
          <a:xfrm>
            <a:off x="2844720" y="2565360"/>
            <a:ext cx="51278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考虑物质的用途时，首先要考虑物质的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_____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还需要考虑哪些因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7418"/>
          <p:cNvSpPr/>
          <p:nvPr/>
        </p:nvSpPr>
        <p:spPr>
          <a:xfrm>
            <a:off x="5745240" y="30924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中宋"/>
              </a:rPr>
              <a:t>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"/>
          <p:cNvSpPr/>
          <p:nvPr/>
        </p:nvSpPr>
        <p:spPr>
          <a:xfrm>
            <a:off x="3662280" y="884160"/>
            <a:ext cx="191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金属之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08000" y="1909800"/>
            <a:ext cx="569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地壳中含量最高的金属元素──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285720" y="2819520"/>
            <a:ext cx="57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目前世界年产量最高的金属──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933200" y="3276720"/>
            <a:ext cx="29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导电、导热性最好的金属──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285720" y="2362320"/>
            <a:ext cx="57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体中含量最高的金属元素──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460240" y="3733920"/>
            <a:ext cx="57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硬度最高的金属──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397960" y="4191120"/>
            <a:ext cx="70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熔点最高的金属──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460240" y="4648320"/>
            <a:ext cx="57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熔点最低的金属──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397960" y="5105520"/>
            <a:ext cx="70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密度最大的金属──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460240" y="5562720"/>
            <a:ext cx="57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密度最小的金属──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4"/>
          <p:cNvSpPr/>
          <p:nvPr/>
        </p:nvSpPr>
        <p:spPr>
          <a:xfrm>
            <a:off x="557280" y="998640"/>
            <a:ext cx="798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类从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石器时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青铜器时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继而进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铁器时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铜和铁作为金属材料一直被广泛地应用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◆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铝的利用要比铜和铁晚得多，现在世界上铝的年产量已超过了铜，位于铁之后，居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多数金属呈银白色，常温下为固体，有金属光泽，是电和热的优良导体，有延展性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特例：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温下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液态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紫红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黄色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物质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性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很大程度上决定了物质的用途，使用时需考虑多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E:\化学\化学九年级（一）\081金属材料\金属材料（一）\铁锅.jpg"/>
          <p:cNvPicPr/>
          <p:nvPr/>
        </p:nvPicPr>
        <p:blipFill>
          <a:blip r:embed="rId1"/>
          <a:stretch/>
        </p:blipFill>
        <p:spPr>
          <a:xfrm>
            <a:off x="1494000" y="600120"/>
            <a:ext cx="2822400" cy="183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E:\化学\化学九年级（一）\081金属材料\金属材料（一）\铝锅.jpg"/>
          <p:cNvPicPr/>
          <p:nvPr/>
        </p:nvPicPr>
        <p:blipFill>
          <a:blip r:embed="rId2"/>
          <a:stretch/>
        </p:blipFill>
        <p:spPr>
          <a:xfrm>
            <a:off x="1494000" y="2652840"/>
            <a:ext cx="2822400" cy="189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E:\化学\化学九年级（一）\081金属材料\金属材料（一）\火锅.jpg"/>
          <p:cNvPicPr/>
          <p:nvPr/>
        </p:nvPicPr>
        <p:blipFill>
          <a:blip r:embed="rId3"/>
          <a:stretch/>
        </p:blipFill>
        <p:spPr>
          <a:xfrm>
            <a:off x="4514760" y="600120"/>
            <a:ext cx="3130560" cy="3962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987840" y="1095480"/>
            <a:ext cx="464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987840" y="3218040"/>
            <a:ext cx="464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7763400" y="2282760"/>
            <a:ext cx="464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34960" y="4767120"/>
            <a:ext cx="8318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  环顾你家里的日常生活用品，如锅、壶、刀、锄、水龙头等，它们大都是由金属材料制成的。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金属材料包括纯金属以及它们的合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3700440" y="1050840"/>
            <a:ext cx="17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608040" y="2041560"/>
            <a:ext cx="788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什么是金属材料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属材料的发展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常见金属的物理性质和用途，知道性质和用途的关系。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6147"/>
          <p:cNvGrpSpPr/>
          <p:nvPr/>
        </p:nvGrpSpPr>
        <p:grpSpPr>
          <a:xfrm>
            <a:off x="230040" y="236520"/>
            <a:ext cx="2232000" cy="807120"/>
            <a:chOff x="230040" y="236520"/>
            <a:chExt cx="2232000" cy="807120"/>
          </a:xfrm>
        </p:grpSpPr>
        <p:sp>
          <p:nvSpPr>
            <p:cNvPr id="81" name="矩形 7"/>
            <p:cNvSpPr/>
            <p:nvPr/>
          </p:nvSpPr>
          <p:spPr>
            <a:xfrm>
              <a:off x="789840" y="236520"/>
              <a:ext cx="167220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6"/>
            <p:cNvSpPr/>
            <p:nvPr/>
          </p:nvSpPr>
          <p:spPr>
            <a:xfrm>
              <a:off x="230040" y="52416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7"/>
            <p:cNvSpPr/>
            <p:nvPr/>
          </p:nvSpPr>
          <p:spPr>
            <a:xfrm>
              <a:off x="591840" y="47340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6151"/>
            <p:cNvSpPr/>
            <p:nvPr/>
          </p:nvSpPr>
          <p:spPr>
            <a:xfrm>
              <a:off x="1072800" y="51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金属材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6152"/>
            <p:cNvSpPr/>
            <p:nvPr/>
          </p:nvSpPr>
          <p:spPr>
            <a:xfrm>
              <a:off x="230040" y="5230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文本框 1"/>
          <p:cNvSpPr/>
          <p:nvPr/>
        </p:nvSpPr>
        <p:spPr>
          <a:xfrm>
            <a:off x="277920" y="1162080"/>
            <a:ext cx="290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385723"/>
                </a:solidFill>
                <a:latin typeface="黑体"/>
                <a:ea typeface="黑体"/>
              </a:rPr>
              <a:t>金属材料的种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"/>
          <p:cNvSpPr/>
          <p:nvPr/>
        </p:nvSpPr>
        <p:spPr>
          <a:xfrm>
            <a:off x="1362240" y="5730840"/>
            <a:ext cx="64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边的化学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属材料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纯金属和合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2" descr=""/>
          <p:cNvPicPr/>
          <p:nvPr/>
        </p:nvPicPr>
        <p:blipFill>
          <a:blip r:embed="rId1"/>
          <a:stretch/>
        </p:blipFill>
        <p:spPr>
          <a:xfrm>
            <a:off x="3627360" y="3876840"/>
            <a:ext cx="4105440" cy="28638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4" descr=""/>
          <p:cNvPicPr/>
          <p:nvPr/>
        </p:nvPicPr>
        <p:blipFill>
          <a:blip r:embed="rId2"/>
          <a:stretch/>
        </p:blipFill>
        <p:spPr>
          <a:xfrm>
            <a:off x="1000080" y="3505320"/>
            <a:ext cx="1467000" cy="38480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5" descr=""/>
          <p:cNvPicPr/>
          <p:nvPr/>
        </p:nvPicPr>
        <p:blipFill>
          <a:blip r:embed="rId3"/>
          <a:stretch/>
        </p:blipFill>
        <p:spPr>
          <a:xfrm>
            <a:off x="3300480" y="1976400"/>
            <a:ext cx="2370240" cy="24717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6" descr=""/>
          <p:cNvPicPr/>
          <p:nvPr/>
        </p:nvPicPr>
        <p:blipFill>
          <a:blip r:embed="rId4"/>
          <a:stretch/>
        </p:blipFill>
        <p:spPr>
          <a:xfrm>
            <a:off x="531720" y="1774800"/>
            <a:ext cx="2370240" cy="2529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7" descr=""/>
          <p:cNvPicPr/>
          <p:nvPr/>
        </p:nvPicPr>
        <p:blipFill>
          <a:blip r:embed="rId5"/>
          <a:stretch/>
        </p:blipFill>
        <p:spPr>
          <a:xfrm>
            <a:off x="6099120" y="1512720"/>
            <a:ext cx="23702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9"/>
          <p:cNvGrpSpPr/>
          <p:nvPr/>
        </p:nvGrpSpPr>
        <p:grpSpPr>
          <a:xfrm>
            <a:off x="685800" y="2023920"/>
            <a:ext cx="2570040" cy="4089600"/>
            <a:chOff x="685800" y="2023920"/>
            <a:chExt cx="2570040" cy="4089600"/>
          </a:xfrm>
        </p:grpSpPr>
        <p:sp>
          <p:nvSpPr>
            <p:cNvPr id="95" name="Text Box 20"/>
            <p:cNvSpPr/>
            <p:nvPr/>
          </p:nvSpPr>
          <p:spPr>
            <a:xfrm>
              <a:off x="1154160" y="5653800"/>
              <a:ext cx="167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石器时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" descr=""/>
            <p:cNvPicPr/>
            <p:nvPr/>
          </p:nvPicPr>
          <p:blipFill>
            <a:blip r:embed="rId1"/>
            <a:stretch/>
          </p:blipFill>
          <p:spPr>
            <a:xfrm>
              <a:off x="695520" y="2023920"/>
              <a:ext cx="2560320" cy="175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" descr=""/>
            <p:cNvPicPr/>
            <p:nvPr/>
          </p:nvPicPr>
          <p:blipFill>
            <a:blip r:embed="rId2"/>
            <a:stretch/>
          </p:blipFill>
          <p:spPr>
            <a:xfrm>
              <a:off x="685800" y="3764880"/>
              <a:ext cx="2570040" cy="175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组合 30"/>
          <p:cNvGrpSpPr/>
          <p:nvPr/>
        </p:nvGrpSpPr>
        <p:grpSpPr>
          <a:xfrm>
            <a:off x="3732120" y="1800360"/>
            <a:ext cx="1963800" cy="4313160"/>
            <a:chOff x="3732120" y="1800360"/>
            <a:chExt cx="1963800" cy="4313160"/>
          </a:xfrm>
        </p:grpSpPr>
        <p:sp>
          <p:nvSpPr>
            <p:cNvPr id="99" name="Text Box 22"/>
            <p:cNvSpPr/>
            <p:nvPr/>
          </p:nvSpPr>
          <p:spPr>
            <a:xfrm>
              <a:off x="3893400" y="5653800"/>
              <a:ext cx="168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青铜时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4" descr=""/>
            <p:cNvPicPr/>
            <p:nvPr/>
          </p:nvPicPr>
          <p:blipFill>
            <a:blip r:embed="rId3"/>
            <a:stretch/>
          </p:blipFill>
          <p:spPr>
            <a:xfrm>
              <a:off x="3732120" y="1800360"/>
              <a:ext cx="196380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"/>
            <p:cNvPicPr/>
            <p:nvPr/>
          </p:nvPicPr>
          <p:blipFill>
            <a:blip r:embed="rId4"/>
            <a:stretch/>
          </p:blipFill>
          <p:spPr>
            <a:xfrm>
              <a:off x="4032720" y="3775320"/>
              <a:ext cx="1365120" cy="186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组合 31"/>
          <p:cNvGrpSpPr/>
          <p:nvPr/>
        </p:nvGrpSpPr>
        <p:grpSpPr>
          <a:xfrm>
            <a:off x="5872320" y="1922400"/>
            <a:ext cx="2738160" cy="4191120"/>
            <a:chOff x="5872320" y="1922400"/>
            <a:chExt cx="2738160" cy="4191120"/>
          </a:xfrm>
        </p:grpSpPr>
        <p:sp>
          <p:nvSpPr>
            <p:cNvPr id="103" name="Text Box 27"/>
            <p:cNvSpPr/>
            <p:nvPr/>
          </p:nvSpPr>
          <p:spPr>
            <a:xfrm>
              <a:off x="5872320" y="565380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铁器时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"/>
            <p:cNvPicPr/>
            <p:nvPr/>
          </p:nvPicPr>
          <p:blipFill>
            <a:blip r:embed="rId5"/>
            <a:stretch/>
          </p:blipFill>
          <p:spPr>
            <a:xfrm>
              <a:off x="5929920" y="3931200"/>
              <a:ext cx="2680560" cy="16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"/>
            <p:cNvPicPr/>
            <p:nvPr/>
          </p:nvPicPr>
          <p:blipFill>
            <a:blip r:embed="rId6"/>
            <a:stretch/>
          </p:blipFill>
          <p:spPr>
            <a:xfrm>
              <a:off x="6204240" y="1922400"/>
              <a:ext cx="2154960" cy="198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右箭头 27"/>
          <p:cNvSpPr/>
          <p:nvPr/>
        </p:nvSpPr>
        <p:spPr>
          <a:xfrm>
            <a:off x="3352680" y="3662280"/>
            <a:ext cx="462240" cy="2858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92d050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右箭头 28"/>
          <p:cNvSpPr/>
          <p:nvPr/>
        </p:nvSpPr>
        <p:spPr>
          <a:xfrm>
            <a:off x="5756400" y="3648240"/>
            <a:ext cx="461880" cy="2854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92d050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"/>
          <p:cNvSpPr/>
          <p:nvPr/>
        </p:nvSpPr>
        <p:spPr>
          <a:xfrm>
            <a:off x="274680" y="654120"/>
            <a:ext cx="364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5723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385723"/>
                </a:solidFill>
                <a:latin typeface="黑体"/>
                <a:ea typeface="黑体"/>
              </a:rPr>
              <a:t>金属材料的发展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67104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175b5c"/>
                </a:solidFill>
                <a:latin typeface="黑体"/>
                <a:ea typeface="黑体"/>
              </a:rPr>
              <a:t>3.</a:t>
            </a:r>
            <a:r>
              <a:rPr b="0" lang="zh-CN" sz="2100" spc="-1" strike="noStrike">
                <a:solidFill>
                  <a:srgbClr val="175b5c"/>
                </a:solidFill>
                <a:latin typeface="黑体"/>
                <a:ea typeface="黑体"/>
              </a:rPr>
              <a:t>几种重要的金属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76200" y="1257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铁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目前世界年产量最高的金属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2" name="Picture 8" descr="Image46"/>
          <p:cNvPicPr/>
          <p:nvPr/>
        </p:nvPicPr>
        <p:blipFill>
          <a:blip r:embed="rId1"/>
          <a:srcRect l="0" t="0" r="0" b="10932"/>
          <a:stretch/>
        </p:blipFill>
        <p:spPr>
          <a:xfrm>
            <a:off x="2073240" y="2093760"/>
            <a:ext cx="5172120" cy="4007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28120" y="868320"/>
            <a:ext cx="802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铝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利用仅有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多年，由于它密度小、延展性好、具有抗腐蚀等优良性能，现在世界上铝的年产量已超过了铜，位于铁之后，居第二位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359000" y="3317760"/>
            <a:ext cx="3011400" cy="2432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473720" y="3344760"/>
            <a:ext cx="336852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93560" y="825480"/>
            <a:ext cx="809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铜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人类利用最早的金属材料，由于它的含量少等原因，现在世界上铜的年产量，位于铁和铝之后，居第三位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40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9" name="图片 4" descr=""/>
          <p:cNvPicPr/>
          <p:nvPr/>
        </p:nvPicPr>
        <p:blipFill>
          <a:blip r:embed="rId1"/>
          <a:stretch/>
        </p:blipFill>
        <p:spPr>
          <a:xfrm>
            <a:off x="2962440" y="2225520"/>
            <a:ext cx="3338280" cy="665028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4360" y="74880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钛</a:t>
            </a:r>
            <a:r>
              <a:rPr b="0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世纪的重要金属材料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2" name="Picture 5" descr="C:\Users\Administrator\Desktop\图片1.png图片1"/>
          <p:cNvPicPr/>
          <p:nvPr/>
        </p:nvPicPr>
        <p:blipFill>
          <a:blip r:embed="rId1"/>
          <a:stretch/>
        </p:blipFill>
        <p:spPr>
          <a:xfrm>
            <a:off x="1177920" y="1393920"/>
            <a:ext cx="2538360" cy="4182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3" name="Rectangle 12"/>
          <p:cNvSpPr/>
          <p:nvPr/>
        </p:nvSpPr>
        <p:spPr>
          <a:xfrm>
            <a:off x="3527280" y="5816520"/>
            <a:ext cx="2327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钛应用于医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619520" y="3641760"/>
            <a:ext cx="3327480" cy="21160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" descr=""/>
          <p:cNvPicPr/>
          <p:nvPr/>
        </p:nvPicPr>
        <p:blipFill>
          <a:blip r:embed="rId3"/>
          <a:stretch/>
        </p:blipFill>
        <p:spPr>
          <a:xfrm>
            <a:off x="5654520" y="1255680"/>
            <a:ext cx="2292480" cy="230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8:54:09Z</dcterms:created>
  <dc:creator/>
  <dc:description/>
  <dc:language>en-US</dc:language>
  <cp:lastModifiedBy>Administrator</cp:lastModifiedBy>
  <dcterms:modified xsi:type="dcterms:W3CDTF">2019-01-07T09:12:20Z</dcterms:modified>
  <cp:revision>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